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8187-D18C-4551-A356-85BB869F6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0391-3EEA-47A3-A02F-9568386C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1F16-E9F2-4A8B-9910-53DBC5A25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DCEE-685C-4AFD-8515-6377DF1A1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E114-1A90-4C37-9E0D-EC32B975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2EEB-9A6C-46D9-A537-15A3927C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F38E-F403-4E19-932D-B93F2438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E7E2-EF70-47BA-BC96-2ED16A46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FC76-39BF-47DD-A035-A2D01314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2367-051C-47B4-B404-901BFD05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D5AF-D161-44AE-A5AE-DD63A5DF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7593-C50D-4EFE-80EF-F4454602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9727-64A9-4044-A0F2-DC2223E727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9"/>
          <p:cNvCxnSpPr>
            <a:stCxn id="44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TextBox 16"/>
          <p:cNvSpPr/>
          <p:nvPr/>
        </p:nvSpPr>
        <p:spPr>
          <a:xfrm>
            <a:off x="7304040" y="30481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ow/Hid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7"/>
          <p:cNvCxnSpPr>
            <a:stCxn id="46" idx="1"/>
          </p:cNvCxnSpPr>
          <p:nvPr/>
        </p:nvCxnSpPr>
        <p:spPr>
          <a:xfrm flipH="1" flipV="1">
            <a:off x="6323760" y="3201120"/>
            <a:ext cx="980640" cy="7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572000" y="5667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2"/>
          <p:cNvCxnSpPr>
            <a:stCxn id="52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35"/>
          <p:cNvCxnSpPr>
            <a:stCxn id="53" idx="0"/>
          </p:cNvCxnSpPr>
          <p:nvPr/>
        </p:nvCxnSpPr>
        <p:spPr>
          <a:xfrm flipH="1" flipV="1">
            <a:off x="50112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3-03T17:38:21Z</dcterms:modified>
  <cp:revision>5</cp:revision>
  <dc:subject/>
  <dc:title>PowerPoint Presentation</dc:title>
</cp:coreProperties>
</file>